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82F8-6BA3-42C8-96BF-39FF5178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69B7-B3BC-4B91-8E42-9F807A9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72EA-2CE4-456F-9CA0-3CF4DD19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53E4-EF29-42FC-9E72-0FF7D0AB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E486-BE6C-4381-90E4-03049D1F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045A-8CA2-4E2E-A1BB-361BB4BC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E207-B3E9-49E0-AA48-FB387FEF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CEBB-1732-4172-9D1C-7BAF1E5C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6072-82E5-458F-AF1F-5EEAF7C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A64C-FAA0-4E86-8699-0850D6D6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EFDC-B250-46D4-99A4-6B4E2C5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BA52-308D-4277-A022-088571B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497E-8BA1-4829-9CA1-6A44526DF3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abc"/>
            </a:gs>
            <a:gs pos="50000">
              <a:srgbClr val="95c5db"/>
            </a:gs>
            <a:gs pos="100000">
              <a:srgbClr val="7a7ab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резентации по тем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Семь чудес света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чителя начальных классов МОУ «Средняя общеобразовательная школа № 45» г.Калуги Романенковой О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ая презентация составлена к урокам курса «Окружающий мир» по программе А.А. Плешакова в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ить знания детей по теме урока «Знаменитые места мир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ивать любовь к прекрасн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у презентацию можно использовать на уроке объяснения, а так же для внеклассной работы на классных ча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3"/>
            </a:gs>
            <a:gs pos="100000">
              <a:srgbClr val="6767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Александрийский ма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03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як был построен на скале на о. Фарос близ египетского побережья и поражал всех своими размерами… Это была трехэтажная башня, высотой около 120 метров.На куполе маяка стояла огромная бронзовая статуя бога морей Посейдона высотой 7 м. Маяк освещал путь в гавань и был креп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mayak2"/>
          <p:cNvPicPr/>
          <p:nvPr/>
        </p:nvPicPr>
        <p:blipFill>
          <a:blip r:embed="rId1"/>
          <a:stretch/>
        </p:blipFill>
        <p:spPr>
          <a:xfrm>
            <a:off x="4356000" y="1557360"/>
            <a:ext cx="4335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9f"/>
            </a:gs>
            <a:gs pos="50000">
              <a:srgbClr val="45a9a9"/>
            </a:gs>
            <a:gs pos="100000">
              <a:srgbClr val="7a71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92360" y="530064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bertus Extra Bold"/>
              </a:rPr>
              <a:t>Из этих произведений архитектуры и искусства, сохранилась только пирамида Хеоп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Семь чудес света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Египетские пирамиды были построе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а)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100 лет назад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б)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1000 лет назад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в)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4500 лет назад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ОВЕРЬ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1296"/>
          <p:cNvPicPr/>
          <p:nvPr/>
        </p:nvPicPr>
        <p:blipFill>
          <a:blip r:embed="rId2"/>
          <a:stretch/>
        </p:blipFill>
        <p:spPr>
          <a:xfrm>
            <a:off x="179280" y="1989000"/>
            <a:ext cx="3059280" cy="2376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76720" y="1628280"/>
            <a:ext cx="586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черкните в списке названия достопримечательности и страны, где она нах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татуя Свободы      </a:t>
            </a: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Америка 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иднейская опера     </a:t>
            </a: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Австр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Пирамида Хеопса      </a:t>
            </a: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Еги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ОВЕРЬ СЕБЯ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й достопримечательност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 стрелками наз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исячие сады Семирам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Храм Артем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Александрийский ма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sady1"/>
          <p:cNvPicPr/>
          <p:nvPr/>
        </p:nvPicPr>
        <p:blipFill>
          <a:blip r:embed="rId2"/>
          <a:stretch/>
        </p:blipFill>
        <p:spPr>
          <a:xfrm>
            <a:off x="5364000" y="5084640"/>
            <a:ext cx="316872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artemida"/>
          <p:cNvPicPr/>
          <p:nvPr/>
        </p:nvPicPr>
        <p:blipFill>
          <a:blip r:embed="rId3"/>
          <a:stretch/>
        </p:blipFill>
        <p:spPr>
          <a:xfrm>
            <a:off x="5364000" y="1844640"/>
            <a:ext cx="3168720" cy="15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ayak2"/>
          <p:cNvPicPr/>
          <p:nvPr/>
        </p:nvPicPr>
        <p:blipFill>
          <a:blip r:embed="rId4"/>
          <a:stretch/>
        </p:blipFill>
        <p:spPr>
          <a:xfrm>
            <a:off x="5364000" y="3429000"/>
            <a:ext cx="3168720" cy="1511280"/>
          </a:xfrm>
          <a:prstGeom prst="rect">
            <a:avLst/>
          </a:prstGeom>
          <a:ln w="0">
            <a:noFill/>
          </a:ln>
        </p:spPr>
      </p:pic>
      <p:sp>
        <p:nvSpPr>
          <p:cNvPr id="90" name="Line 12"/>
          <p:cNvSpPr/>
          <p:nvPr/>
        </p:nvSpPr>
        <p:spPr>
          <a:xfrm>
            <a:off x="3635280" y="2421000"/>
            <a:ext cx="1584360" cy="3313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 flipV="1">
            <a:off x="3924360" y="2708280"/>
            <a:ext cx="1295280" cy="14414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3995640" y="4075920"/>
            <a:ext cx="1224000" cy="1368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4b"/>
            </a:gs>
            <a:gs pos="100000">
              <a:srgbClr val="ff8b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шаков А.А. Мир вокруг нас. Учеб. для 3 кл. нач. шк. В 2 ч. Ч 2 / А.А. Плешаков. – М.: Просвещение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шаков А.А. Мир вокруг нас. Проверим себя: Тетрадь для учащихся 3 класса начальной школы. В 2 ч. Ч. 2. – М.: Вита-Пресс,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 из серии «ЧТО ЕСТЬ ЧТО». «Семь чудес света». – М.: «Сло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ww.turismy.com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a3f3"/>
            </a:gs>
            <a:gs pos="100000">
              <a:srgbClr val="653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68360" y="1557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8800" spc="-1" strike="noStrike">
                <a:solidFill>
                  <a:srgbClr val="ffff99"/>
                </a:solidFill>
                <a:latin typeface="Arial"/>
              </a:rPr>
              <a:t>Спасибо</a:t>
            </a:r>
            <a:br>
              <a:rPr sz="8800"/>
            </a:br>
            <a:r>
              <a:rPr b="1" i="1" lang="ru-RU" sz="8800" spc="-1" strike="noStrike">
                <a:solidFill>
                  <a:srgbClr val="ffff99"/>
                </a:solidFill>
                <a:latin typeface="Arial"/>
              </a:rPr>
              <a:t>за</a:t>
            </a:r>
            <a:br>
              <a:rPr sz="8800"/>
            </a:br>
            <a:r>
              <a:rPr b="1" i="1" lang="ru-RU" sz="8800" spc="-1" strike="noStrike">
                <a:solidFill>
                  <a:srgbClr val="ffff99"/>
                </a:solidFill>
                <a:latin typeface="Arial"/>
              </a:rPr>
              <a:t>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5000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ru-RU" sz="8800" spc="-1" strike="noStrike">
                <a:solidFill>
                  <a:srgbClr val="cc0000"/>
                </a:solidFill>
                <a:latin typeface="Arial"/>
              </a:rPr>
              <a:t>СЕМЬ ЧУДЕС</a:t>
            </a:r>
            <a:br>
              <a:rPr sz="8800"/>
            </a:br>
            <a:r>
              <a:rPr b="1" lang="ru-RU" sz="8800" spc="-1" strike="noStrike">
                <a:solidFill>
                  <a:srgbClr val="cc0000"/>
                </a:solidFill>
                <a:latin typeface="Arial"/>
              </a:rPr>
              <a:t> СВЕТА</a:t>
            </a:r>
            <a:br>
              <a:rPr sz="8800"/>
            </a:br>
            <a:br>
              <a:rPr sz="8800"/>
            </a:br>
            <a:r>
              <a:rPr b="0" lang="ru-RU" sz="2400" spc="-1" strike="noStrike">
                <a:solidFill>
                  <a:srgbClr val="48207e"/>
                </a:solidFill>
                <a:latin typeface="Arial"/>
              </a:rPr>
              <a:t>Романенкова О.Е., учитель начальных классов </a:t>
            </a:r>
            <a:br>
              <a:rPr sz="2400"/>
            </a:br>
            <a:r>
              <a:rPr b="0" lang="ru-RU" sz="2400" spc="-1" strike="noStrike">
                <a:solidFill>
                  <a:srgbClr val="48207e"/>
                </a:solidFill>
                <a:latin typeface="Arial"/>
              </a:rPr>
              <a:t>МОУ « Средняя  общеобразовательная школа № 45»</a:t>
            </a:r>
            <a:br>
              <a:rPr sz="2400"/>
            </a:br>
            <a:r>
              <a:rPr b="0" lang="ru-RU" sz="2400" spc="-1" strike="noStrike">
                <a:solidFill>
                  <a:srgbClr val="48207e"/>
                </a:solidFill>
                <a:latin typeface="Arial"/>
              </a:rPr>
              <a:t> г. Калуги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0560" y="7605360"/>
            <a:ext cx="6502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b7"/>
            </a:gs>
            <a:gs pos="50000">
              <a:srgbClr val="ffa347"/>
            </a:gs>
            <a:gs pos="100000">
              <a:srgbClr val="6d6db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Карта расположения семи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a"/>
          <p:cNvPicPr/>
          <p:nvPr/>
        </p:nvPicPr>
        <p:blipFill>
          <a:blip r:embed="rId1"/>
          <a:stretch/>
        </p:blipFill>
        <p:spPr>
          <a:xfrm>
            <a:off x="952560" y="2101680"/>
            <a:ext cx="71247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86ca"/>
            </a:gs>
            <a:gs pos="100000">
              <a:srgbClr val="383e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Египетские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п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421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чудо света – пирамида Хеопса. Своё название получила по имени её создателя фараона Хеопса (около 2551-2528 до Р.Х.). Её высота – 146,6 м, площадь основания составляет 230 м х 230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1296"/>
          <p:cNvPicPr/>
          <p:nvPr/>
        </p:nvPicPr>
        <p:blipFill>
          <a:blip r:embed="rId1"/>
          <a:stretch/>
        </p:blipFill>
        <p:spPr>
          <a:xfrm>
            <a:off x="4211640" y="1700280"/>
            <a:ext cx="471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5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ff1d"/>
            </a:gs>
            <a:gs pos="50000">
              <a:srgbClr val="ffff57"/>
            </a:gs>
            <a:gs pos="100000">
              <a:srgbClr val="8eff1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468720" y="1483920"/>
            <a:ext cx="42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 знаменитые сады  в Вавилоне были построены по приказу царя Навуходоносора для любимой жены. Они размещались на четырехъярусной башне. Сказочно прекрасны были они. Их аромат, тень и прохлада в безлесной Вавилонии  казались людям необыкновенным чу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dy1"/>
          <p:cNvPicPr/>
          <p:nvPr/>
        </p:nvPicPr>
        <p:blipFill>
          <a:blip r:embed="rId1"/>
          <a:stretch/>
        </p:blipFill>
        <p:spPr>
          <a:xfrm>
            <a:off x="3851280" y="1628640"/>
            <a:ext cx="529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"/>
                            </p:stCondLst>
                            <p:childTnLst>
                              <p:par>
                                <p:cTn id="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50000">
              <a:srgbClr val="66ccff"/>
            </a:gs>
            <a:gs pos="100000">
              <a:srgbClr val="9999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Статуя Зевса Олимпий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zevs4"/>
          <p:cNvPicPr/>
          <p:nvPr/>
        </p:nvPicPr>
        <p:blipFill>
          <a:blip r:embed="rId1"/>
          <a:stretch/>
        </p:blipFill>
        <p:spPr>
          <a:xfrm>
            <a:off x="4716360" y="1557360"/>
            <a:ext cx="421164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495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я Зевса работы Фидия в целле храма в Олимпии считается одним из Семи чудес света. Двенадцатиметровая фигура сплошь отделана золотом и слоновой костью, трон выполнен из слоновой 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Храм Артемиды Эфес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601280"/>
            <a:ext cx="403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темида почиталась в Эфесе как богиня ох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илище Артемиды было главной достопримечательностью древнего Эфеса в Древней Греции.Строительство храма длилось 120 лет.После пожара был отстроен заново и стал еще прекрасней. Внутри храма находилась 15-ти метровая статуя Артемиды. Храм так же был самым знаменитым музеем : собранием картин и скульп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rtemida"/>
          <p:cNvPicPr/>
          <p:nvPr/>
        </p:nvPicPr>
        <p:blipFill>
          <a:blip r:embed="rId2"/>
          <a:stretch/>
        </p:blipFill>
        <p:spPr>
          <a:xfrm>
            <a:off x="3995640" y="1628640"/>
            <a:ext cx="49323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5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acda"/>
            </a:gs>
            <a:gs pos="50000">
              <a:srgbClr val="ab4df1"/>
            </a:gs>
            <a:gs pos="100000">
              <a:srgbClr val="8aac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Галикарнасский мавзо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033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есь мир славилась своим великолепием гробница царя Мовсола, простоявший около 1800 лет. Это сооружение высотой 49 метров устояло и во время походов А. Македонского, и в других войнах,  и во время землетрясений. Статуя карийского царя Мавсола высотой 3,05 м была найдена среди развалин мавзолея. Ныне находится в Британском музее в Лонд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avzoley1"/>
          <p:cNvPicPr/>
          <p:nvPr/>
        </p:nvPicPr>
        <p:blipFill>
          <a:blip r:embed="rId1"/>
          <a:stretch/>
        </p:blipFill>
        <p:spPr>
          <a:xfrm>
            <a:off x="4067280" y="1484280"/>
            <a:ext cx="4897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2f81"/>
            </a:gs>
            <a:gs pos="100000">
              <a:srgbClr val="7979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олосс Родос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21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онц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 до н.э в Древней Греции на  о.Родос была построена гигантская статуя бога солнца Гелиоса, высотой 35 метров. Ее строительство велось 12 лет.Весть о необыкновенном сооружении быстро разнеслась по всему греческому миру, но родосцы недолго гордились статуей. Через 56 лет статуя была разрушена во время землетря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Koloss1"/>
          <p:cNvPicPr/>
          <p:nvPr/>
        </p:nvPicPr>
        <p:blipFill>
          <a:blip r:embed="rId1"/>
          <a:stretch/>
        </p:blipFill>
        <p:spPr>
          <a:xfrm>
            <a:off x="4284720" y="1341360"/>
            <a:ext cx="460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9:59:26Z</dcterms:created>
  <dc:creator>Администратор</dc:creator>
  <dc:description/>
  <dc:language>en-US</dc:language>
  <cp:lastModifiedBy>Fenix</cp:lastModifiedBy>
  <dcterms:modified xsi:type="dcterms:W3CDTF">2012-12-20T15:10:15Z</dcterms:modified>
  <cp:revision>80</cp:revision>
  <dc:subject/>
  <dc:title>История древнего мира</dc:title>
</cp:coreProperties>
</file>